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BBB-8A6C-4B7C-9EFF-4ECD0E21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D36-9971-497C-B6C7-0C403311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A2D-F029-4CEF-A7E0-F54EB924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C4A-D324-4BD7-AC0C-12399DE7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94E-5294-4F74-AED2-C99D07D2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C8F-69CB-47B5-9E4D-6E0005DB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779-269B-4EF2-A609-CDFFC7E8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C39-4E5C-44E8-94FF-06D9B6B0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BFE-B72F-47F3-82C4-836DBB32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F73-09FD-4F0C-82A9-E3760EA1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BEE-B535-45EB-A88D-9C358EDF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D2B-08D2-4F18-9251-EEEAF7F0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0A13-87CA-4FEA-92F4-ACA07A366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acroeconomic Closures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avings-Investment Bal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5311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roduction to CGE Mod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toria March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vestment-driven Savings: Kaldo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ssume I is exogen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 can change even if Y is fixed, if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mp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might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mp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han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ogenous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dogenous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ggregate savings can change because income distribution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orkers’ vs “capitalists”, “poor” vs “rich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investment increases exogenously, redistribution of income towards high savers restores S-I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ed quite big differences in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mp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changes in income shares to have a significant ef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vestment-driven Savings: Kaldo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05920" y="1989000"/>
            <a:ext cx="893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ever, our model: full employment &amp; Y is f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, with given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mps,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 is f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refore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must be endogen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justs to the (new) fixed level of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ock can only come from increased factor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ise in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auses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ch causes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ch causes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5684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lternative Adjustment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“Savings-driven Investment”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447920" y="1066680"/>
            <a:ext cx="6476760" cy="3810240"/>
            <a:chOff x="1447920" y="1066680"/>
            <a:chExt cx="6476760" cy="3810240"/>
          </a:xfrm>
        </p:grpSpPr>
        <p:sp>
          <p:nvSpPr>
            <p:cNvPr id="118" name=""/>
            <p:cNvSpPr/>
            <p:nvPr/>
          </p:nvSpPr>
          <p:spPr>
            <a:xfrm>
              <a:off x="1828800" y="1523880"/>
              <a:ext cx="0" cy="33530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28800" y="3429000"/>
              <a:ext cx="556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1066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S,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5200" y="3429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295280" y="3200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419720" y="1523880"/>
            <a:ext cx="609480" cy="2484720"/>
            <a:chOff x="4419720" y="1523880"/>
            <a:chExt cx="609480" cy="2484720"/>
          </a:xfrm>
        </p:grpSpPr>
        <p:sp>
          <p:nvSpPr>
            <p:cNvPr id="124" name=""/>
            <p:cNvSpPr/>
            <p:nvPr/>
          </p:nvSpPr>
          <p:spPr>
            <a:xfrm>
              <a:off x="4572000" y="1523880"/>
              <a:ext cx="0" cy="190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19720" y="342900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743200" y="5257800"/>
            <a:ext cx="2663640" cy="459720"/>
            <a:chOff x="2743200" y="5257800"/>
            <a:chExt cx="2663640" cy="459720"/>
          </a:xfrm>
        </p:grpSpPr>
        <p:sp>
          <p:nvSpPr>
            <p:cNvPr id="127" name=""/>
            <p:cNvSpPr/>
            <p:nvPr/>
          </p:nvSpPr>
          <p:spPr>
            <a:xfrm flipV="1">
              <a:off x="2743200" y="529596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886200" y="529596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029200" y="529596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19720" y="548640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62520" y="525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7320" y="52578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00400" y="5486400"/>
              <a:ext cx="457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371600" y="2209680"/>
            <a:ext cx="3199680" cy="510120"/>
            <a:chOff x="1371600" y="2209680"/>
            <a:chExt cx="3199680" cy="510120"/>
          </a:xfrm>
        </p:grpSpPr>
        <p:sp>
          <p:nvSpPr>
            <p:cNvPr id="136" name=""/>
            <p:cNvSpPr/>
            <p:nvPr/>
          </p:nvSpPr>
          <p:spPr>
            <a:xfrm flipH="1">
              <a:off x="1819080" y="2514600"/>
              <a:ext cx="2752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1600" y="2209680"/>
              <a:ext cx="640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85800" y="2209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867280" y="1523880"/>
            <a:ext cx="609840" cy="2484720"/>
            <a:chOff x="5867280" y="1523880"/>
            <a:chExt cx="609840" cy="2484720"/>
          </a:xfrm>
        </p:grpSpPr>
        <p:sp>
          <p:nvSpPr>
            <p:cNvPr id="140" name=""/>
            <p:cNvSpPr/>
            <p:nvPr/>
          </p:nvSpPr>
          <p:spPr>
            <a:xfrm>
              <a:off x="6019920" y="1523880"/>
              <a:ext cx="0" cy="190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67280" y="342900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371600" y="1733400"/>
            <a:ext cx="4647960" cy="510120"/>
            <a:chOff x="1371600" y="1733400"/>
            <a:chExt cx="4647960" cy="510120"/>
          </a:xfrm>
        </p:grpSpPr>
        <p:sp>
          <p:nvSpPr>
            <p:cNvPr id="143" name=""/>
            <p:cNvSpPr/>
            <p:nvPr/>
          </p:nvSpPr>
          <p:spPr>
            <a:xfrm flipH="1">
              <a:off x="1825200" y="2038320"/>
              <a:ext cx="419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71600" y="17334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85800" y="17524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419112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80880" y="2057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avings-driven Investment: Neo-Class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useholds sav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ggregate sav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ggregate Savings must equal Aggregate Inves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lance kept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 adjusting to exogenous I 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ome adjusting (Keyn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ome distribution adjusting (Kal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p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djusting exogenously (savings campaig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adjusting to exogenous S (Neoclassic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vestment Savings Closure: Summar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odeling Savings and Invest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add savings and investment functions to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straints on model now must 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-I balance, as well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ket clearing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S = I can be derived from other eq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tional income accou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refore S = I is not </a:t>
            </a: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independ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del becomes over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uld drop one market clearing 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we did in previous models (CGE1 and CGE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IFPRI (and others) approa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d a new (dummy) variable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WAL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I + WALRAS =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equlibrium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WALRA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del Investment 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ourier New"/>
                <a:ea typeface="Times New Roman"/>
              </a:rPr>
              <a:t>Sum(C, P(C) *QINV(C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ff66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ourier New"/>
                <a:ea typeface="Times New Roman"/>
              </a:rPr>
              <a:t>QINV(C) = qinvbar(c)*IADJ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ADJ scaling factor impacts each comm equ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Modeling Savings and Invest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omic Sans MS"/>
              </a:rPr>
              <a:t>Original IFPRI exercise simultaneously introduc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avings – investment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ctivity specific w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omic Sans MS"/>
              </a:rPr>
              <a:t>Confusion: adapted IFPRI exercise split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Comic Sans MS"/>
              </a:rPr>
              <a:t>CGE3a: introduce savings – investment ba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Comic Sans MS"/>
              </a:rPr>
              <a:t>CGE3b: introduce activity specific wages + unemploy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omic Sans MS"/>
              </a:rPr>
              <a:t>IFPRI course material is adapted accord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erci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fault closure: savings driven inves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66"/>
                </a:solidFill>
                <a:latin typeface="Courier New"/>
              </a:rPr>
              <a:t>mp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fixed =&gt; </a:t>
            </a:r>
            <a:r>
              <a:rPr b="0" i="1" lang="en-US" sz="3200" spc="-1" strike="noStrike">
                <a:solidFill>
                  <a:srgbClr val="66ff66"/>
                </a:solidFill>
                <a:latin typeface="Courier New"/>
              </a:rPr>
              <a:t>IADJ</a:t>
            </a:r>
            <a:r>
              <a:rPr b="0" lang="en-US" sz="28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dju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ff66"/>
                </a:solidFill>
                <a:latin typeface="Courier New"/>
              </a:rPr>
              <a:t>mp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o be declared as parameter in G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ever, </a:t>
            </a:r>
            <a:r>
              <a:rPr b="0" i="1" lang="en-US" sz="3600" spc="-1" strike="noStrike">
                <a:solidFill>
                  <a:srgbClr val="66ff66"/>
                </a:solidFill>
                <a:latin typeface="Courier New"/>
              </a:rPr>
              <a:t>MP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eclared as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bsequently: fix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66ff66"/>
                </a:solidFill>
                <a:latin typeface="Courier New"/>
              </a:rPr>
              <a:t>MPS.FX(H) = MPS0(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?: Now we can swap betw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vings driven: </a:t>
            </a:r>
            <a:r>
              <a:rPr b="0" i="1" lang="en-US" sz="2800" spc="-1" strike="noStrike">
                <a:solidFill>
                  <a:srgbClr val="66ff66"/>
                </a:solidFill>
                <a:latin typeface="Courier New"/>
              </a:rPr>
              <a:t>MPS.FX(H)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&amp;</a:t>
            </a:r>
            <a:r>
              <a:rPr b="0" i="1" lang="en-US" sz="2800" spc="-1" strike="noStrike">
                <a:solidFill>
                  <a:srgbClr val="66ff66"/>
                </a:solidFill>
                <a:latin typeface="Courier New"/>
              </a:rPr>
              <a:t> IADJ.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vestment driven: </a:t>
            </a:r>
            <a:r>
              <a:rPr b="0" i="1" lang="en-US" sz="2800" spc="-1" strike="noStrike">
                <a:solidFill>
                  <a:srgbClr val="66ff66"/>
                </a:solidFill>
                <a:latin typeface="Courier New"/>
              </a:rPr>
              <a:t>MPS.L(H)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&amp;</a:t>
            </a:r>
            <a:r>
              <a:rPr b="0" i="1" lang="en-US" sz="2800" spc="-1" strike="noStrike">
                <a:solidFill>
                  <a:srgbClr val="66ff66"/>
                </a:solidFill>
                <a:latin typeface="Courier New"/>
              </a:rPr>
              <a:t> IADJ.F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ercise CGE3a GAMS Not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ault closure: savings driven inves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Courier New"/>
              </a:rPr>
              <a:t>IADJ.L    = IADJ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Courier New"/>
              </a:rPr>
              <a:t>MPS.FX(H) = MPS0(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nual closure swap available for investment driven sav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Courier New"/>
              </a:rPr>
              <a:t>IADJ.FX   = IADJ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Courier New"/>
              </a:rPr>
              <a:t>MPS.LO(H) = -INF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Courier New"/>
              </a:rPr>
              <a:t>MPS.UP(H) = +INF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Courier New"/>
              </a:rPr>
              <a:t>MPS.L(H)  = MPS0(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uestion: can we do this for all households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66"/>
                </a:solidFill>
                <a:latin typeface="Courier New"/>
              </a:rPr>
              <a:t>MPS.L('U-HHD')  = MPS0('U-HHD'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of this makes no difference to solving for the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ever, simulation: 10% increase in capital st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outine added: closure swapping simulations &amp; repor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witch parameter = 1 or = 2, with “ if “ stat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ercise CGE3a GAMS Not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ntroducing Savings and Inves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mple Walrasian Model had no savings and inves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ed to add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odel now includes a “fixed variab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ff66"/>
                </a:solidFill>
                <a:latin typeface="Courier New"/>
              </a:rPr>
              <a:t>MPS.FX(H) = MPS0(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ff66"/>
                </a:solidFill>
                <a:latin typeface="Courier New"/>
              </a:rPr>
              <a:t>IADJ.FX   = IADJ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unted as variable by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ariables &gt; eq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AMS suggests using following state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ff66"/>
                </a:solidFill>
                <a:latin typeface="Courier New"/>
              </a:rPr>
              <a:t>CGE3.HOLDFIXED = 1;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Variables with “</a:t>
            </a:r>
            <a:r>
              <a:rPr b="0" lang="en-NZ" sz="2800" spc="-1" strike="noStrike">
                <a:solidFill>
                  <a:srgbClr val="66ff66"/>
                </a:solidFill>
                <a:latin typeface="Courier New"/>
              </a:rPr>
              <a:t>.FX</a:t>
            </a:r>
            <a:r>
              <a:rPr b="0" lang="en-NZ" sz="2800" spc="-1" strike="noStrike">
                <a:solidFill>
                  <a:srgbClr val="ffffff"/>
                </a:solidFill>
                <a:latin typeface="Courier New"/>
              </a:rPr>
              <a:t>”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are treated as cons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nly “</a:t>
            </a:r>
            <a:r>
              <a:rPr b="0" lang="en-NZ" sz="2800" spc="-1" strike="noStrike">
                <a:solidFill>
                  <a:srgbClr val="66ff66"/>
                </a:solidFill>
                <a:latin typeface="Courier New"/>
              </a:rPr>
              <a:t>.L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” are counted by G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ercise CGE3a GAMS Not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 course material Section 3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eck coding in CGE3a task.g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ead the introduction text carefu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heck: search for </a:t>
            </a:r>
            <a:r>
              <a:rPr b="0" i="1" lang="en-US" sz="2400" spc="-1" strike="noStrike">
                <a:solidFill>
                  <a:srgbClr val="ff9900"/>
                </a:solidFill>
                <a:latin typeface="Courier New"/>
              </a:rPr>
              <a:t>*++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roup discussion of c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omplete: search for </a:t>
            </a:r>
            <a:r>
              <a:rPr b="0" i="1" lang="en-US" sz="2400" spc="-1" strike="noStrike">
                <a:solidFill>
                  <a:srgbClr val="ff9900"/>
                </a:solidFill>
                <a:latin typeface="Courier New"/>
              </a:rPr>
              <a:t>*Complete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ote hints and clues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valuate an increase in capital stock by 20% u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avings driven closure (neoclassic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vestment driven closure (Keynesia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scussion of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ercise CGE3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deling Sav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eviously all household income was spent on buying commod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w assume some is sa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ical text book modelling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H receives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: decides how much to s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: decides how to split remainder (‘consumption’) between commod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deling Savings of Each Househo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370160"/>
                <a:tab algn="r" pos="74264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come of Household H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66ff66"/>
                </a:solidFill>
                <a:latin typeface="Courier New"/>
              </a:rPr>
              <a:t>YH(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370160"/>
                <a:tab algn="r" pos="74264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roduce propensity to sa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66"/>
                </a:solidFill>
                <a:latin typeface="Courier New"/>
              </a:rPr>
              <a:t>mps(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370160"/>
                <a:tab algn="r" pos="74264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0160"/>
                <a:tab algn="r" pos="74264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(1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urier New"/>
              </a:rPr>
              <a:t>S(H) = mps(H) * YH(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0160"/>
                <a:tab algn="r" pos="74264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(2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urier New"/>
              </a:rPr>
              <a:t>C(H) = (1 - mps(H))* YH(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0160"/>
                <a:tab algn="r" pos="74264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(3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66ff66"/>
                </a:solidFill>
                <a:latin typeface="Courier New"/>
              </a:rPr>
              <a:t>QH(C,H) = beta(C,H)*C(H)/P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1370160"/>
                <a:tab algn="r" pos="74264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bstitute (2) in 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0160"/>
                <a:tab algn="r" pos="742644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(4) </a:t>
            </a:r>
            <a:r>
              <a:rPr b="0" lang="en-US" sz="2400" spc="-1" strike="noStrike">
                <a:solidFill>
                  <a:srgbClr val="66ff66"/>
                </a:solidFill>
                <a:latin typeface="Courier New"/>
              </a:rPr>
              <a:t>QH(C,H) = beta(C,H)*(1-mps(H))*YH(H)/P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deling Aggregate Sav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d together savings of all households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66ff66"/>
                </a:solidFill>
                <a:latin typeface="Courier New"/>
              </a:rPr>
              <a:t>S = sum(H, </a:t>
            </a:r>
            <a:r>
              <a:rPr b="0" lang="en-US" sz="3200" spc="-1" strike="noStrike">
                <a:solidFill>
                  <a:srgbClr val="66ff66"/>
                </a:solidFill>
                <a:latin typeface="Courier New"/>
                <a:ea typeface="Times New Roman"/>
              </a:rPr>
              <a:t>mps(H) * YH(H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deling Invest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8436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eal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nvestment, so creates demand for commodities (but no additional capac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we know total investment, can assume investment demand for each good is some fixed sh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66ff66"/>
                </a:solidFill>
                <a:latin typeface="Courier New"/>
              </a:rPr>
              <a:t>QINV(C)= </a:t>
            </a:r>
            <a:r>
              <a:rPr b="0" lang="en-US" sz="3200" spc="-1" strike="noStrike">
                <a:solidFill>
                  <a:srgbClr val="66ff66"/>
                </a:solidFill>
                <a:latin typeface="Courier New"/>
                <a:ea typeface="Times New Roman"/>
              </a:rPr>
              <a:t>invshr(C)* TOTIN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what determines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TOTINV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vings-Investment Closur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avings-Investment Clos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7360" y="171936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om the previous sli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ourier New"/>
              </a:rPr>
              <a:t>S = sum(H, </a:t>
            </a:r>
            <a:r>
              <a:rPr b="1" lang="en-US" sz="2000" spc="-1" strike="noStrike">
                <a:solidFill>
                  <a:srgbClr val="66ff66"/>
                </a:solidFill>
                <a:latin typeface="Courier New"/>
                <a:ea typeface="Times New Roman"/>
              </a:rPr>
              <a:t>mps(H) * YH(H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ourier New"/>
              </a:rPr>
              <a:t>QINV(C)= </a:t>
            </a:r>
            <a:r>
              <a:rPr b="1" lang="en-US" sz="2000" spc="-1" strike="noStrike">
                <a:solidFill>
                  <a:srgbClr val="66ff66"/>
                </a:solidFill>
                <a:latin typeface="Courier New"/>
                <a:ea typeface="Times New Roman"/>
              </a:rPr>
              <a:t>invshr(C)* TOTIN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om National Income Id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 =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is this balance achiev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not make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o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and I exogen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uld be coincidental if S=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vestment Exogenous / Savings Endogen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vestment-driven Saving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vings Exogenous / Investment Endogen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avings-driven Investmen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vestment-driven Savings”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449000"/>
            <a:ext cx="815364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S(Y) = Ib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I rises (exogenously), S must rise (endogenous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nce </a:t>
            </a:r>
            <a:r>
              <a:rPr b="0" lang="en-GB" sz="3200" spc="-1" strike="noStrike">
                <a:solidFill>
                  <a:srgbClr val="66ff66"/>
                </a:solidFill>
                <a:latin typeface="Comic Sans MS"/>
              </a:rPr>
              <a:t>S = mps *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280" y="3833640"/>
            <a:ext cx="81025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ffere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S = Y*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mps + mps*</a:t>
            </a:r>
            <a:r>
              <a:rPr b="0" lang="en-US" sz="3200" spc="-1" strike="noStrike">
                <a:solidFill>
                  <a:srgbClr val="66ff66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fore S can rise either beca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 rises (Keynesian, income effect)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ps rises (Kaldorian, distribution eff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16280" y="4284720"/>
            <a:ext cx="900360" cy="584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76640" y="4373640"/>
            <a:ext cx="1260360" cy="584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" dur="1" fill="hold"/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295280" y="1371600"/>
            <a:ext cx="6629400" cy="3505320"/>
            <a:chOff x="1295280" y="1371600"/>
            <a:chExt cx="6629400" cy="3505320"/>
          </a:xfrm>
        </p:grpSpPr>
        <p:grpSp>
          <p:nvGrpSpPr>
            <p:cNvPr id="62" name=""/>
            <p:cNvGrpSpPr/>
            <p:nvPr/>
          </p:nvGrpSpPr>
          <p:grpSpPr>
            <a:xfrm>
              <a:off x="1447920" y="1371600"/>
              <a:ext cx="6476760" cy="3505320"/>
              <a:chOff x="1447920" y="1371600"/>
              <a:chExt cx="6476760" cy="3505320"/>
            </a:xfrm>
          </p:grpSpPr>
          <p:sp>
            <p:nvSpPr>
              <p:cNvPr id="63" name=""/>
              <p:cNvSpPr/>
              <p:nvPr/>
            </p:nvSpPr>
            <p:spPr>
              <a:xfrm>
                <a:off x="1828800" y="1981080"/>
                <a:ext cx="0" cy="28958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28800" y="3429000"/>
                <a:ext cx="55627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447920" y="1371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,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15200" y="3429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95280" y="3200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233360" y="1843200"/>
            <a:ext cx="6019560" cy="510120"/>
            <a:chOff x="1233360" y="1843200"/>
            <a:chExt cx="6019560" cy="510120"/>
          </a:xfrm>
        </p:grpSpPr>
        <p:sp>
          <p:nvSpPr>
            <p:cNvPr id="69" name=""/>
            <p:cNvSpPr/>
            <p:nvPr/>
          </p:nvSpPr>
          <p:spPr>
            <a:xfrm>
              <a:off x="1842840" y="2286000"/>
              <a:ext cx="5410080" cy="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33360" y="18432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219320" y="2324160"/>
            <a:ext cx="6019560" cy="510120"/>
            <a:chOff x="1219320" y="2324160"/>
            <a:chExt cx="6019560" cy="510120"/>
          </a:xfrm>
        </p:grpSpPr>
        <p:sp>
          <p:nvSpPr>
            <p:cNvPr id="72" name=""/>
            <p:cNvSpPr/>
            <p:nvPr/>
          </p:nvSpPr>
          <p:spPr>
            <a:xfrm>
              <a:off x="1828800" y="2666880"/>
              <a:ext cx="5410080" cy="0"/>
            </a:xfrm>
            <a:prstGeom prst="line">
              <a:avLst/>
            </a:prstGeom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19320" y="23241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828800" y="1371600"/>
            <a:ext cx="6629400" cy="2666520"/>
            <a:chOff x="1828800" y="1371600"/>
            <a:chExt cx="6629400" cy="2666520"/>
          </a:xfrm>
        </p:grpSpPr>
        <p:sp>
          <p:nvSpPr>
            <p:cNvPr id="75" name=""/>
            <p:cNvSpPr/>
            <p:nvPr/>
          </p:nvSpPr>
          <p:spPr>
            <a:xfrm flipV="1">
              <a:off x="1828800" y="1676160"/>
              <a:ext cx="5638680" cy="23619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67480" y="13716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Y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952880" y="2666880"/>
            <a:ext cx="609840" cy="1272240"/>
            <a:chOff x="4952880" y="2666880"/>
            <a:chExt cx="609840" cy="1272240"/>
          </a:xfrm>
        </p:grpSpPr>
        <p:sp>
          <p:nvSpPr>
            <p:cNvPr id="78" name=""/>
            <p:cNvSpPr/>
            <p:nvPr/>
          </p:nvSpPr>
          <p:spPr>
            <a:xfrm>
              <a:off x="5105520" y="266688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52880" y="34290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791320" y="2286000"/>
            <a:ext cx="609480" cy="1653120"/>
            <a:chOff x="5791320" y="2286000"/>
            <a:chExt cx="609480" cy="1653120"/>
          </a:xfrm>
        </p:grpSpPr>
        <p:sp>
          <p:nvSpPr>
            <p:cNvPr id="81" name=""/>
            <p:cNvSpPr/>
            <p:nvPr/>
          </p:nvSpPr>
          <p:spPr>
            <a:xfrm>
              <a:off x="6019920" y="2286000"/>
              <a:ext cx="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91320" y="342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V="1">
            <a:off x="914400" y="22860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4343400"/>
            <a:ext cx="99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vestment-driven Savings: Keynes/Kal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835280" y="784080"/>
            <a:ext cx="6279480" cy="3221280"/>
            <a:chOff x="1835280" y="784080"/>
            <a:chExt cx="6279480" cy="3221280"/>
          </a:xfrm>
        </p:grpSpPr>
        <p:sp>
          <p:nvSpPr>
            <p:cNvPr id="87" name=""/>
            <p:cNvSpPr/>
            <p:nvPr/>
          </p:nvSpPr>
          <p:spPr>
            <a:xfrm flipV="1">
              <a:off x="1835280" y="1125360"/>
              <a:ext cx="5473440" cy="28800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25560" y="784080"/>
              <a:ext cx="88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Y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11640" y="22766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972360" y="5248440"/>
            <a:ext cx="4484880" cy="459720"/>
            <a:chOff x="972360" y="5248440"/>
            <a:chExt cx="4484880" cy="459720"/>
          </a:xfrm>
        </p:grpSpPr>
        <p:grpSp>
          <p:nvGrpSpPr>
            <p:cNvPr id="91" name=""/>
            <p:cNvGrpSpPr/>
            <p:nvPr/>
          </p:nvGrpSpPr>
          <p:grpSpPr>
            <a:xfrm>
              <a:off x="2743200" y="5257800"/>
              <a:ext cx="2714040" cy="444960"/>
              <a:chOff x="2743200" y="5257800"/>
              <a:chExt cx="2714040" cy="44496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2743200" y="5295960"/>
                <a:ext cx="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886200" y="5295960"/>
                <a:ext cx="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5029200" y="5295960"/>
                <a:ext cx="0" cy="380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419720" y="5486400"/>
                <a:ext cx="457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895480" y="52578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62520" y="52578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07320" y="53038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00400" y="5486400"/>
                <a:ext cx="457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72360" y="524844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Keynes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018440" y="5850000"/>
            <a:ext cx="4811760" cy="459720"/>
            <a:chOff x="1018440" y="5850000"/>
            <a:chExt cx="4811760" cy="459720"/>
          </a:xfrm>
        </p:grpSpPr>
        <p:sp>
          <p:nvSpPr>
            <p:cNvPr id="102" name=""/>
            <p:cNvSpPr/>
            <p:nvPr/>
          </p:nvSpPr>
          <p:spPr>
            <a:xfrm flipV="1">
              <a:off x="2816280" y="58896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959280" y="58896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402160" y="588960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792680" y="6079680"/>
              <a:ext cx="4572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68560" y="585144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5600" y="5851440"/>
              <a:ext cx="71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p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80280" y="58975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273480" y="6079680"/>
              <a:ext cx="4572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18440" y="585000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Kaldo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9:21:15Z</dcterms:created>
  <dc:creator>New Windows 98 User</dc:creator>
  <dc:description/>
  <dc:language>en-US</dc:language>
  <cp:lastModifiedBy>Dirk New</cp:lastModifiedBy>
  <dcterms:modified xsi:type="dcterms:W3CDTF">2007-03-18T11:29:39Z</dcterms:modified>
  <cp:revision>31</cp:revision>
  <dc:subject/>
  <dc:title>Macroeconomic Closures: Part I</dc:title>
</cp:coreProperties>
</file>